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46A-3C6B-4D43-9BF7-94D18311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317-8D78-4A56-AA30-4DDC73F0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C77-5589-4EA4-B8DF-C4604A9A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978-2D36-4A18-B0D3-6580CB20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7064-4565-433F-9233-2B5426E7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A8C3-8B06-4FE1-8BB3-5EDC9686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0F9-4179-489A-B9D6-FE4FA27D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62E-4A86-49EF-9DE6-947F9904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46B4-93A3-4C1F-996F-917FD7BD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AC0F-4432-4B7A-B2A0-0AD56AAC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05F-AB5B-4D9D-89A9-3F7B4E38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E47-E203-468B-A153-38FF01CB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39C8-DADA-4361-834F-556DCDCBD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1800" y="1044720"/>
            <a:ext cx="565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Big Bad Pig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0" y="205740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59280" y="2666880"/>
            <a:ext cx="3025440" cy="238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01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137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1154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58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946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429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246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71840" y="2666880"/>
            <a:ext cx="4000320" cy="3429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1376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230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4953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286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2286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74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56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562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5656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25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2362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154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002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21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3352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2T18:51:32Z</dcterms:modified>
  <cp:revision>9</cp:revision>
  <dc:subject/>
  <dc:title>No Slide Title</dc:title>
</cp:coreProperties>
</file>